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94214"/>
        <c:axId val="70227903"/>
      </c:barChart>
      <c:catAx>
        <c:axId val="55394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27903"/>
        <c:crosses val="autoZero"/>
        <c:auto val="1"/>
        <c:lblAlgn val="ctr"/>
        <c:lblOffset val="100"/>
        <c:noMultiLvlLbl val="0"/>
      </c:catAx>
      <c:valAx>
        <c:axId val="70227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94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68A-A1A0-4108-BF2C-A8CB8CE8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F85-2E82-4552-87DD-85050D2F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795-399E-4F2C-AB04-D9B0EDD7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EFC-1692-405E-83C4-66878C09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0DF-7CF3-4AA3-A317-A9D1B5C3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BF2-284F-4E5A-9DC1-46671720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9FB-05F6-4807-B3EF-186B014B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AE3-3D47-4759-9E90-C217B1DD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2B8-B678-487E-889A-E7F537D8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993-FB7F-452E-99D9-DCC9F487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6E1-909A-4BA6-8D7B-A1B0C392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FBE-0377-4CCA-A4D6-480B1FCE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9F628-CB00-444D-927A-62E52090AD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