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35597"/>
        <c:axId val="78566599"/>
      </c:barChart>
      <c:catAx>
        <c:axId val="64435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66599"/>
        <c:crosses val="autoZero"/>
        <c:auto val="1"/>
        <c:lblAlgn val="ctr"/>
        <c:lblOffset val="100"/>
        <c:noMultiLvlLbl val="0"/>
      </c:catAx>
      <c:valAx>
        <c:axId val="78566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5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8CF-844A-4E94-BD9D-4EFD7843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EF4-EE7A-437F-BF44-CDCC6FF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31D-983A-4499-A2BB-F080C53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05A-4AD7-456C-8A07-C2632723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65C-8966-4F4D-A715-486B6820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492-50B0-4D63-9DFE-051993E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9BF-E4BE-4F7C-9216-153E8B6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2C7-DCB2-4F27-A3A3-7D9BED1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FBC-5E18-49A8-B82D-B02AB5A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EC8-2144-4A88-AE78-A49A512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1E8-4728-4156-ADCE-47B0BEA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33D-91A1-4977-83EF-E1D7FC0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F396-01F4-4839-A342-D1D51AF77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