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42926"/>
        <c:axId val="73258199"/>
      </c:barChart>
      <c:catAx>
        <c:axId val="48642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58199"/>
        <c:crosses val="autoZero"/>
        <c:auto val="1"/>
        <c:lblAlgn val="ctr"/>
        <c:lblOffset val="100"/>
        <c:noMultiLvlLbl val="0"/>
      </c:catAx>
      <c:valAx>
        <c:axId val="73258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42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EC7-FCF3-44AA-B635-9D1456A5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CB71-71D7-4119-84DE-69F2CB52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B4E-2A83-4D5E-9B00-097B0622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A0C-73F4-4539-901F-6C1CEE6E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379-B437-4736-B614-11C59D6C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AAF-472B-4A52-9548-AF9ACD31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F9E-E6C3-4A20-8D34-CE920B57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46B-716C-4CDA-A890-1BE20A31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7FA7-151F-42BB-99FA-B0317590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E2C1-FC72-491A-A5D6-87F67FA6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729D-BC9E-4752-A001-F11CE698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9F1-1DA7-46A8-B01A-01AC765E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B62D9-28CA-44B1-8D6F-E39D5A730B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