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81320"/>
        <c:axId val="63985166"/>
      </c:barChart>
      <c:catAx>
        <c:axId val="30081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85166"/>
        <c:crosses val="autoZero"/>
        <c:auto val="1"/>
        <c:lblAlgn val="ctr"/>
        <c:lblOffset val="100"/>
        <c:noMultiLvlLbl val="0"/>
      </c:catAx>
      <c:valAx>
        <c:axId val="639851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1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57A-E5EE-456E-8BBE-828A17F0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465-0BC5-416C-A102-E9FBF71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E1B-63C9-4A42-847B-2FDAC8B4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1BF-DAAD-41CC-A783-E2295A6F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D58-BC0E-44D8-8613-464C316A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645-8627-4282-A448-C21064C5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0B1-A979-480E-B154-B979BFB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570-49FF-4FBE-B0E0-8A0C3AB7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68B-C6C9-4AD8-B875-F7A691C0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417-BC66-4606-9F4C-D880AF6F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4B4-4DD4-4C15-B7B5-6F6E6EF4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DBB-41CF-411B-8AA7-B17BD715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EBDC1-1905-4F0C-9656-5DA7CA42F3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